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354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62440" y="-360"/>
            <a:ext cx="293688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6360" y="769680"/>
            <a:ext cx="4925880" cy="3693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6640" y="4695840"/>
            <a:ext cx="4945320" cy="4541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67640"/>
            <a:ext cx="29354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62440" y="9467640"/>
            <a:ext cx="293688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2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4E5A0-A9E4-4936-94F8-34B50F7255A5}" type="slidenum">
              <a:rPr b="1" lang="cs-CZ" sz="12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62440" y="9468000"/>
            <a:ext cx="29368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33E2E-1CE0-4DF8-9FAD-E13E982A6D8D}" type="slidenum">
              <a:rPr b="1" lang="cs-CZ" sz="12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36720" y="770040"/>
            <a:ext cx="4925880" cy="36939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26640" y="4695840"/>
            <a:ext cx="4945320" cy="45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E650-FCB5-4E4B-A124-F52069911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D87A-DE02-424A-9039-CA6C9732A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8EBE-BC41-4FCB-A2C2-A27A1E345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83A6-C1DE-4EEE-8DA1-E680605B6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63D5-00EE-4B7F-BD7B-C72C07971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AA6A-BDAD-4DCE-8F82-F20837B75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3B2A-D1A2-4483-BFC0-6FFA00190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26FB-66EF-42AD-A4F2-F4EBF741A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DFC5-3CF3-4A3E-B3E3-42E5D33B4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E0C5-28A8-4B3A-ACB8-39624720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92AC-5032-4693-BC34-7F53B2CB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A250-B096-4C22-AB28-4E4FB18B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B0BA1-2400-41AA-82AA-51FE7D7BAB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Zástupný symbol pro číslo snímku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06240-617D-4C65-AB0D-1FA9178A7F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395280" y="1752480"/>
            <a:ext cx="8497800" cy="39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99"/>
                </a:solidFill>
                <a:latin typeface="Times New Roman"/>
              </a:rPr>
              <a:t>Nemocenské pojištění</a:t>
            </a:r>
            <a:endParaRPr b="1" lang="en-US" sz="4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99"/>
                </a:solidFill>
                <a:latin typeface="Times New Roman"/>
              </a:rPr>
              <a:t>Konference „Sociální ochrana zaměstnanců“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99"/>
                </a:solidFill>
                <a:latin typeface="Times New Roman"/>
              </a:rPr>
              <a:t>Hotel Olšanka, 11. 10. 2017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Zástupný symbol pro číslo snímku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DB541-9F15-45C3-B4C6-2D855C3F22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971640" y="6093000"/>
            <a:ext cx="7921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cs-CZ" sz="4800" spc="-1" strike="noStrike">
                <a:solidFill>
                  <a:srgbClr val="003399"/>
                </a:solidFill>
                <a:latin typeface="Times New Roman"/>
              </a:rPr>
              <a:t>Úsporná opatření – </a:t>
            </a:r>
            <a:br>
              <a:rPr sz="4800"/>
            </a:br>
            <a:r>
              <a:rPr b="0" lang="cs-CZ" sz="4800" spc="-1" strike="noStrike">
                <a:solidFill>
                  <a:srgbClr val="003399"/>
                </a:solidFill>
                <a:latin typeface="Times New Roman"/>
              </a:rPr>
              <a:t>na straně zaměstnance </a:t>
            </a:r>
            <a:br>
              <a:rPr sz="4800"/>
            </a:br>
            <a:endParaRPr b="0" lang="en-US" sz="4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066680" y="1628640"/>
            <a:ext cx="71265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d r. 20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vedení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náhrady mzdy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– 14 d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vedení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karenční doby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- 3 d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rušen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odvod pojistného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,1→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d r. 2010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nížení nemocenského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a 60 %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od r. 2018 návrat na 60 % - 66 % - 72 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Zástupný symbol pro číslo snímku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8D0D1-1D8F-4A14-A30D-00D3741F2E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971640" y="6093000"/>
            <a:ext cx="7921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3399"/>
                </a:solidFill>
                <a:latin typeface="Times New Roman"/>
              </a:rPr>
              <a:t>Na straně zaměstnavatele</a:t>
            </a:r>
            <a:endParaRPr b="0" lang="en-US" sz="4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142640" y="1676520"/>
            <a:ext cx="7126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nížení odvodu z 3,3 na 2,3 %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Zavedení náhrady mzdy, z počátku polovina kompenzována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cca 2 mld. Kč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dloužení výplaty náhrady mzdy ze 2 na 3 týdny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2011-201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řipojištění malých zaměstnavatelů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- plná kompenzace, pojistné 3,3 %, málo využíváno, zruše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Zástupný symbol pro číslo snímku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18CF5-0B79-4478-8BDE-F32DB1ED6B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971640" y="6093000"/>
            <a:ext cx="7921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92" name="Zástupný symbol pro obsah 6" descr=""/>
          <p:cNvPicPr/>
          <p:nvPr/>
        </p:nvPicPr>
        <p:blipFill>
          <a:blip r:embed="rId1"/>
          <a:stretch/>
        </p:blipFill>
        <p:spPr>
          <a:xfrm>
            <a:off x="317520" y="396720"/>
            <a:ext cx="8661240" cy="59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Zástupný symbol pro číslo snímku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423F8-72B7-4BAD-8C88-E43B1368A1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971640" y="6093000"/>
            <a:ext cx="7921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95" name="Zástupný symbol pro obsah 7" descr=""/>
          <p:cNvPicPr/>
          <p:nvPr/>
        </p:nvPicPr>
        <p:blipFill>
          <a:blip r:embed="rId1"/>
          <a:stretch/>
        </p:blipFill>
        <p:spPr>
          <a:xfrm>
            <a:off x="244440" y="328680"/>
            <a:ext cx="8734320" cy="60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Zástupný symbol pro číslo snímku 6"/>
          <p:cNvSpPr/>
          <p:nvPr/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1BEBE-C7C4-4D60-A6AA-A2D080880D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971640" y="6093000"/>
            <a:ext cx="7921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98" name="Zástupný symbol pro obsah 7" descr=""/>
          <p:cNvPicPr/>
          <p:nvPr/>
        </p:nvPicPr>
        <p:blipFill>
          <a:blip r:embed="rId1"/>
          <a:stretch/>
        </p:blipFill>
        <p:spPr>
          <a:xfrm>
            <a:off x="171360" y="328680"/>
            <a:ext cx="8807400" cy="60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Zástupný symbol pro číslo snímku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FC9A5-54A5-4547-BE77-09E7BF8D01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971640" y="6093000"/>
            <a:ext cx="7921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66"/>
                </a:solidFill>
                <a:latin typeface="Times New Roman"/>
              </a:rPr>
              <a:t>Výdaje na nemocenské dávky </a:t>
            </a:r>
            <a:br>
              <a:rPr sz="3600"/>
            </a:br>
            <a:r>
              <a:rPr b="1" lang="cs-CZ" sz="3600" spc="-1" strike="noStrike">
                <a:solidFill>
                  <a:srgbClr val="000066"/>
                </a:solidFill>
                <a:latin typeface="Times New Roman"/>
              </a:rPr>
              <a:t>v letech 2008–2016</a:t>
            </a:r>
            <a:br>
              <a:rPr sz="3600"/>
            </a:br>
            <a:endParaRPr b="0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95280" y="1981080"/>
          <a:ext cx="8569440" cy="3988080"/>
        </p:xfrm>
        <a:graphic>
          <a:graphicData uri="http://schemas.openxmlformats.org/drawingml/2006/table">
            <a:tbl>
              <a:tblPr/>
              <a:tblGrid>
                <a:gridCol w="4248000"/>
                <a:gridCol w="1186200"/>
                <a:gridCol w="1074600"/>
                <a:gridCol w="1074600"/>
                <a:gridCol w="986040"/>
              </a:tblGrid>
              <a:tr h="53352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(v mil. Kč)</a:t>
                      </a:r>
                      <a:endParaRPr b="1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012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016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05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Peněžité dávky celkem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1 882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6 033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9 377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6 284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01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emocenské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4 769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8 215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1 465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6 985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859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Ošetřovné (podpora při ošetř. člena rodiny)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811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29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82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 180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05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Peněžitá pomoc v mateřství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 297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 084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 224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8 110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8740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Vyrovnávací příspěvek v těhot. a mateřství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Zástupný symbol pro číslo snímku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26A12-4F01-44DF-9E9B-A3A0C7E67B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971640" y="6093000"/>
            <a:ext cx="7921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99"/>
                </a:solidFill>
                <a:latin typeface="Times New Roman"/>
              </a:rPr>
              <a:t>Podíl výdajů na dávky NP v roce 2016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106" name="Graf 6" descr=""/>
          <p:cNvPicPr/>
          <p:nvPr/>
        </p:nvPicPr>
        <p:blipFill>
          <a:blip r:embed="rId1"/>
          <a:stretch/>
        </p:blipFill>
        <p:spPr>
          <a:xfrm>
            <a:off x="244440" y="1189080"/>
            <a:ext cx="872820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Zástupný symbol pro číslo snímku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D4D6-1EFA-4C4B-9AFA-16FEB2DC29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971640" y="6093000"/>
            <a:ext cx="7921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3399"/>
                </a:solidFill>
                <a:latin typeface="Times New Roman"/>
              </a:rPr>
              <a:t>Změny od r. 2018</a:t>
            </a:r>
            <a:endParaRPr b="0" lang="en-US" sz="4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1760" y="20574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Zvýšení nemocenského při dlouhodobé P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–  60 – 66 – 72 %  (15-30, 31-60, od 61. d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Zavedení otcovské poporodní pé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Zavedení dlouhodobého ošetřovnéh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3 měsíce 60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Zástupný symbol pro číslo snímku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DE98C-A4BA-4EE3-9975-847017017A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971640" y="6093000"/>
            <a:ext cx="7921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3399"/>
                </a:solidFill>
                <a:latin typeface="Times New Roman"/>
              </a:rPr>
              <a:t>Jak dál?</a:t>
            </a:r>
            <a:endParaRPr b="0" lang="en-US" sz="4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331640" y="1981080"/>
            <a:ext cx="712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Vyrovnaný systé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Budoucnost systém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Dostatečná výše nemocenského – karenční doba, výše dávek…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liv digitalizace?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nížení zaměst., částečné úvazky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Neformální péče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 bude řešena komplexně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Zástupný symbol pro číslo snímku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9B3A8-578A-488F-9523-F2529B3BA4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971640" y="6093000"/>
            <a:ext cx="7921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331640" y="1981080"/>
            <a:ext cx="712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Obrázek 5" descr=""/>
          <p:cNvPicPr/>
          <p:nvPr/>
        </p:nvPicPr>
        <p:blipFill>
          <a:blip r:embed="rId1"/>
          <a:stretch/>
        </p:blipFill>
        <p:spPr>
          <a:xfrm>
            <a:off x="-396720" y="0"/>
            <a:ext cx="1015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Zástupný symbol pro číslo snímku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501D2-5CBC-42AD-8676-8B5CD987D1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99"/>
                </a:solidFill>
                <a:latin typeface="Times New Roman"/>
              </a:rPr>
              <a:t>Nemocenské pojištění</a:t>
            </a:r>
            <a:endParaRPr b="0" lang="en-US" sz="4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523520"/>
            <a:ext cx="8507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jistný systém – příjmy mají pokrýt výdaje na dávk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oučást státního rozpoč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ystém vykazuje přebytek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od r. 2010 téměř 24 mld. Kč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Zástupný symbol pro číslo snímku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5B50D-E370-4D9A-A32C-7496873C8B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971640" y="6093000"/>
            <a:ext cx="7921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3399"/>
                </a:solidFill>
                <a:latin typeface="Times New Roman"/>
              </a:rPr>
              <a:t>Co ovlivňuje příjmy</a:t>
            </a:r>
            <a:br>
              <a:rPr sz="4400"/>
            </a:b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94920" y="1628640"/>
            <a:ext cx="85201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jistné - počet nemocensky pojištěných osob, vyměřovací základy a procentní saz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mocensky pojištěných osob – červen 2017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4,5 mil. – zaměstnanců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90 tisíc – OSVČ (9 %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Zástupný symbol pro číslo snímku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4938B-5865-4986-86E4-0A7AD69544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971640" y="6093000"/>
            <a:ext cx="7921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3399"/>
                </a:solidFill>
                <a:latin typeface="Times New Roman"/>
              </a:rPr>
              <a:t>Procentní sazby na NP</a:t>
            </a:r>
            <a:br>
              <a:rPr sz="4400"/>
            </a:b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94920" y="1980720"/>
            <a:ext cx="852012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gativní vývoj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nížení sazby zaměstnavatelům z důvodu náhrady mzdy (z 3,3 % na 2,3 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rušení pojistného zaměstnance (1,1 %)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Zástupný symbol pro číslo snímku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CA5DF-11C2-4041-945F-4DCD54E36D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971640" y="6093000"/>
            <a:ext cx="7921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000" spc="-1" strike="noStrike">
                <a:solidFill>
                  <a:srgbClr val="003399"/>
                </a:solidFill>
                <a:latin typeface="Times New Roman"/>
              </a:rPr>
              <a:t>Sazby pojistného </a:t>
            </a:r>
            <a:br>
              <a:rPr sz="4000"/>
            </a:br>
            <a:endParaRPr b="0" lang="en-US" sz="40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64" name="Object 5"/>
          <p:cNvGraphicFramePr/>
          <p:nvPr/>
        </p:nvGraphicFramePr>
        <p:xfrm>
          <a:off x="395280" y="1557360"/>
          <a:ext cx="8593200" cy="4251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557360"/>
                    <a:ext cx="8593200" cy="42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Zástupný symbol pro číslo snímku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A1880-C6AF-4E47-82AC-97245F573A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971640" y="6093000"/>
            <a:ext cx="7921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3399"/>
                </a:solidFill>
                <a:latin typeface="Times New Roman"/>
              </a:rPr>
              <a:t>Co ovlivňuje výdaje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331640" y="1981080"/>
            <a:ext cx="712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výše dávk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výše příjmu (mzd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způsob redukce a redukční hran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sazba pro výpočet výše dávk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podpůrčí doba (náhrada mzdy 14 dnů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21 dnů…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moc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Zástupný symbol pro číslo snímku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DB4BC-BF5D-4579-9B96-26580B01F5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971640" y="6093000"/>
            <a:ext cx="7921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3399"/>
                </a:solidFill>
                <a:latin typeface="Times New Roman"/>
              </a:rPr>
              <a:t>Průměrné procento PN</a:t>
            </a:r>
            <a:endParaRPr b="0" lang="en-US" sz="4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331640" y="1981080"/>
            <a:ext cx="712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kolik pojištěnců ze 100 je v průměru celý rok v pracovní neschopnosti (četnost a průměrná doba P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ok 2009 – prudký pokles (náhrada mzdy + karenční dob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d r. 2010 – další pokles (snížení výše dávk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d r. 2015 – mírný nárů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Zástupný symbol pro číslo snímku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A180E-F614-4722-A14C-F6FD5127F7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971640" y="6093000"/>
            <a:ext cx="7921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76" name="Zástupný symbol pro obsah 6" descr=""/>
          <p:cNvPicPr/>
          <p:nvPr/>
        </p:nvPicPr>
        <p:blipFill>
          <a:blip r:embed="rId1"/>
          <a:stretch/>
        </p:blipFill>
        <p:spPr>
          <a:xfrm>
            <a:off x="317520" y="328680"/>
            <a:ext cx="8582040" cy="57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Zástupný symbol pro číslo snímku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F21C3-B504-4DF0-809C-1EBA0F43E6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971640" y="6093000"/>
            <a:ext cx="7921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50560" y="333360"/>
            <a:ext cx="87138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0" y="115920"/>
          <a:ext cx="9109080" cy="6638760"/>
        </p:xfrm>
        <a:graphic>
          <a:graphicData uri="http://schemas.openxmlformats.org/drawingml/2006/table">
            <a:tbl>
              <a:tblPr/>
              <a:tblGrid>
                <a:gridCol w="1627200"/>
                <a:gridCol w="1504800"/>
                <a:gridCol w="1897200"/>
                <a:gridCol w="1371600"/>
                <a:gridCol w="1371600"/>
                <a:gridCol w="1336680"/>
              </a:tblGrid>
              <a:tr h="915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ůvodně schválená pravidla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1–2013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-2017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9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enční doba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prac. dny)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dny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dny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dny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dny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1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áhrada mzdy: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Times New Roman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 dobu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Times New Roman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Times New Roman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 výši     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% (1–3), 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 % (od 4.)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%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 4. dne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%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 4. dne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%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 4. dne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%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 4. dne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2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mocenské 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centní sazby 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 % 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 celou dobu nemoci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) 60 %  (15-30)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) 66 % (31-60)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) 72 %  (od 61)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% po celou dobu nemoci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dočasně)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% po celou dobu nemoci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trvale)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% po celou dobu nemoci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6T13:46:31Z</dcterms:created>
  <dc:creator>ČMKOS</dc:creator>
  <dc:description/>
  <dc:language>en-US</dc:language>
  <cp:lastModifiedBy>cmoph</cp:lastModifiedBy>
  <dcterms:modified xsi:type="dcterms:W3CDTF">2017-10-11T05:27:59Z</dcterms:modified>
  <cp:revision>174</cp:revision>
  <dc:subject/>
  <dc:title>PowerPoint Presentation</dc:title>
</cp:coreProperties>
</file>