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4A6E-428A-48AA-8F75-1D30E5658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C68E-A0D8-45D4-B047-76231D38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2F51-D581-4FC1-9B32-06A069074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7AD7-F5C5-49A3-9F36-816F630D7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8F6C-7F99-454B-98C3-CBCB1018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BBEB-8D52-4F5D-9E09-E6FCB17F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2C4A-60B6-4466-BB93-5A65BBBF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E5FB-75C5-4033-A8AF-0503C245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B9A9-E25F-4196-B987-3715B32E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3CBE-BC81-47D0-8D5D-235CB93D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D481-8E01-4AEF-93EA-B78FA628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0807-10BD-48C9-B5C5-A568273C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87CC-75AE-43A1-B697-CD0DBFA2B00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č potřebujeme soulad pracovního a rodinného živo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avel Janíčko, ČMK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ference ČMKOS 25.9.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e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ázev projekt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silování sociálního dialogu   týkajícího se možností zkracování pracovní doby bez snížení mzdy a využívání flexibilních forem rozvržení pracovní doby ve vazběna produktivitu práce, konkurenceschopnost podniků a slaďování pracovního, osobního a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íčová aktivita 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KA 04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Slaďování pracovní, osobního a rodinného života s vazbou na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zkracování pracovní doby a flexibilních forem rozvržení pracovní dob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íl K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mapování vývoje využití různých flexibilních forem zaměstnanosti v České republice, EU a v širším mezinárodním měřítku s důrazem na jejich uplatnění v jednotlivých věkových kategoriích. Posouzení vzájemného vztahu a podmíněností mezi charakteristikami demografického vývoje a rozšířením těchto forem zaměstnanosti. Zhodnocení vztahu  flexibilizace práce a demografických vývojových trendů v ČR.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souzení užití tzv.flexibilních forem práce jako možného nástroje k prosazení udržitelného  demografického vývoj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Formulace námětů pro stanovení pozice a cílů odbor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ředpokládaná věková struktura obyvatelstva v Č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obrázek 2" descr="C:\Users\tom\Desktop\graf2.gif"/>
          <p:cNvPicPr/>
          <p:nvPr/>
        </p:nvPicPr>
        <p:blipFill>
          <a:blip r:embed="rId1"/>
          <a:stretch/>
        </p:blipFill>
        <p:spPr>
          <a:xfrm>
            <a:off x="1217520" y="1628640"/>
            <a:ext cx="6708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dikce vývoje neproduktivní složky populace v Č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obrázek 1" descr="C:\Users\tom\Desktop\graf1.gif"/>
          <p:cNvPicPr/>
          <p:nvPr/>
        </p:nvPicPr>
        <p:blipFill>
          <a:blip r:embed="rId1"/>
          <a:stretch/>
        </p:blipFill>
        <p:spPr>
          <a:xfrm>
            <a:off x="1047600" y="1600200"/>
            <a:ext cx="7047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643280" y="1989000"/>
          <a:ext cx="4356360" cy="340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1989000"/>
                    <a:ext cx="4356360" cy="34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79280" y="1989000"/>
          <a:ext cx="4321440" cy="3386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989000"/>
                    <a:ext cx="4321440" cy="33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populace podle vě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árnutí populace – příč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lepšení zdravotní a sociální pozice starších li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kles porod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ntipopulační kl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blém udržitelnosti důchodového systé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árnutí populace- řeš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lepšení propopulačního klimatu včetně zabezpečení souladu pracovního a rodinného živo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louhodobým řešením n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mi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posunování věku odchodu do důcho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9T08:02:38Z</dcterms:created>
  <dc:creator>Janíčko Pavel</dc:creator>
  <dc:description/>
  <dc:language>en-US</dc:language>
  <cp:lastModifiedBy>Janíčko Pavel</cp:lastModifiedBy>
  <dcterms:modified xsi:type="dcterms:W3CDTF">2017-09-22T07:04:37Z</dcterms:modified>
  <cp:revision>4</cp:revision>
  <dc:subject/>
  <dc:title>Proč potřebujeme soulad pracovní a rodinné politiky?</dc:title>
</cp:coreProperties>
</file>